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D104-F834-415C-81EC-A57EACD2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438D-6EC5-4CC3-9231-C8206121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5E13-A349-4C4B-B0DF-D0A6660D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DB70-4DDA-4318-8863-BE25D76F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FC3-9ADF-448C-B2EE-2280DA8B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BBDE-5088-4D85-8A3C-BE6F4908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BBB-07AE-492A-81AA-28A2CBF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3649-1828-4C7C-8BCA-5995323F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CC5E-013B-4399-B1EB-A9EAF4A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2732-17E9-422B-A23F-A3F86A7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69E-FDE5-412F-9510-9E694F4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255D-3135-4BF6-853C-1365BD3B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DD2-31DC-4C59-9CF3-27B481D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2B6A-9DDE-44F9-A5CC-3EDF9C0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F52-7FF7-45B1-AFC5-D0DDAA69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3FD3-5030-4DC1-B7F6-2A3D8FF4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55CC-4D47-451A-B4ED-3932ADE1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2EFF-3B43-4046-BE86-8569ECB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2EB0-6A69-4C88-B1B8-0AA3BD8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EC69-6090-46D6-AE28-B39BF0D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CF72-979C-4EC2-AFC2-7A4EBCC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EBBC-F0C2-4562-BF1D-A502A66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B022-07D5-4304-883F-6A35435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8C17-08D5-4713-8362-21CFF44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F52-CC63-4F13-825B-E8D81255A27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786-A266-4B21-87E3-796380A0CB1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9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3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Широк е пътят към смърт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него хиляди вър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в тесний път на мъдрост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цина за живот ламтя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10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„Отричай се от себе с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ка ще мож' Ме последв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ръст с търпение понеси!"-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Господ наш заповяд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А щом да следвам аз Хри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егов веч да съм реш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ищо славата в све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чита моята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Не дай да свърна, Боже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широкий път на суе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риготви ме за пок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лава вечна при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09:44Z</dcterms:modified>
  <cp:revision>127</cp:revision>
  <dc:subject/>
  <dc:title>Slide 1</dc:title>
</cp:coreProperties>
</file>